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6B2DD7-8204-442E-B029-57BA6A7BF89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8F966E-3D59-414D-BCBC-82171D4B78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176C52-6881-4211-914D-ED10FD682E3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1A34-A615-4160-95F0-BB10D1E6F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F643-3303-4776-BC48-81AB10081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7747-E42F-40BE-B305-E73213135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F013-FC8E-46FD-AFB2-076D1753B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70A3-953E-47E4-9345-B9BC831CD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9F03-FFE8-4AA5-BE70-9903679E9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DE49-D59B-416C-9005-981F13373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291C-BBBA-42EA-87BB-BC0F69EF2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9822-CAD2-4093-8E80-5597E7857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61CD-D65E-4A76-A060-5DE098ED8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A299-A915-4631-89B3-3B7DD3B16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66FE-5C84-42FB-8F58-396E9873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620ECB-3602-4EC3-9EA9-2DBA3AE0BA6A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83470A-C902-4397-9061-4130B5D120A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Debate Activity: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Calibri"/>
              </a:rPr>
              <a:t>Black And Whit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Forming a BASIC ARGUMEN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Claim #5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18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400" spc="-1" strike="noStrike">
                <a:solidFill>
                  <a:srgbClr val="ffffff"/>
                </a:solidFill>
                <a:latin typeface="Calibri"/>
              </a:rPr>
              <a:t>Marcus should tell the police that Eddie was involved in the crime.</a:t>
            </a:r>
            <a:endParaRPr b="0" lang="en-US" sz="7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Skill #1:  Making a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Calibri"/>
              </a:rPr>
              <a:t>BASIC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 Argument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2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200" spc="-1" strike="noStrike">
                <a:solidFill>
                  <a:srgbClr val="ffffff"/>
                </a:solidFill>
                <a:latin typeface="Calibri"/>
              </a:rPr>
              <a:t>Claim + Warrant</a:t>
            </a:r>
            <a:endParaRPr b="0" lang="en-US" sz="9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600" spc="-1" strike="noStrike" u="sng">
                <a:solidFill>
                  <a:srgbClr val="ffffff"/>
                </a:solidFill>
                <a:uFillTx/>
                <a:latin typeface="Calibri"/>
              </a:rPr>
              <a:t>Claim =</a:t>
            </a:r>
            <a:endParaRPr b="0" lang="en-US" sz="5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libri"/>
              </a:rPr>
              <a:t>A Controversial Statement</a:t>
            </a:r>
            <a:endParaRPr b="0" lang="en-US" sz="5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500" spc="-1" strike="noStrike" u="sng">
                <a:solidFill>
                  <a:srgbClr val="ffffff"/>
                </a:solidFill>
                <a:uFillTx/>
                <a:latin typeface="Calibri"/>
              </a:rPr>
              <a:t>Warrant</a:t>
            </a:r>
            <a:r>
              <a:rPr b="1" lang="en-US" sz="5500" spc="-1" strike="noStrike">
                <a:solidFill>
                  <a:srgbClr val="ffffff"/>
                </a:solidFill>
                <a:latin typeface="Calibri"/>
              </a:rPr>
              <a:t> = </a:t>
            </a:r>
            <a:endParaRPr b="0" lang="en-US" sz="5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500" spc="-1" strike="noStrike">
                <a:solidFill>
                  <a:srgbClr val="ffffff"/>
                </a:solidFill>
                <a:latin typeface="Calibri"/>
              </a:rPr>
              <a:t>Reason the Statement is true</a:t>
            </a:r>
            <a:endParaRPr b="0" lang="en-US" sz="55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aim #1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6200" spc="-1" strike="noStrike">
                <a:solidFill>
                  <a:srgbClr val="ffffff"/>
                </a:solidFill>
                <a:latin typeface="Calibri"/>
              </a:rPr>
              <a:t>McDonalds is better than Burger King.</a:t>
            </a:r>
            <a:endParaRPr b="0" lang="en-US" sz="6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aim #2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100" spc="-1" strike="noStrike">
                <a:solidFill>
                  <a:srgbClr val="ffffff"/>
                </a:solidFill>
                <a:latin typeface="Calibri"/>
              </a:rPr>
              <a:t>Brighton High School is better then Charlestown High School.</a:t>
            </a:r>
            <a:endParaRPr b="0" lang="en-US" sz="61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Claim #3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8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300" spc="-1" strike="noStrike">
                <a:solidFill>
                  <a:srgbClr val="ffffff"/>
                </a:solidFill>
                <a:latin typeface="Calibri"/>
              </a:rPr>
              <a:t>Marcus’s mom supports her son.</a:t>
            </a:r>
            <a:endParaRPr b="0" lang="en-US" sz="7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Claim #4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alibri"/>
              </a:rPr>
              <a:t>Marcus is treated unfairly, because he is black.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06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aim #4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Calibri"/>
              </a:rPr>
              <a:t>Eddie should let authorities know he was the shooter. </a:t>
            </a:r>
            <a:endParaRPr b="0" lang="en-US" sz="6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1T14:05:24Z</dcterms:created>
  <dc:creator>Teacher</dc:creator>
  <dc:description/>
  <dc:language>en-US</dc:language>
  <cp:lastModifiedBy>Teacher</cp:lastModifiedBy>
  <dcterms:modified xsi:type="dcterms:W3CDTF">2011-10-21T17:08:08Z</dcterms:modified>
  <cp:revision>7</cp:revision>
  <dc:subject/>
  <dc:title>Debate Activity:  Black And White</dc:title>
</cp:coreProperties>
</file>